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4EF-E914-4B8D-84D4-D0786D40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EAE-C634-48B6-AA05-DFBA751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433-A2EF-477F-8F92-0A2F1F35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CB6-56F2-44E1-B63A-F1226C98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7D4-BC2C-475D-B229-C1875B19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D13-D1F9-41A9-B441-3BDD037E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BEE-EF71-40A1-A43C-7006279F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2CA-7B10-45C7-8224-7773DEFB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B1E-5BD7-4226-9BA6-DF4EE12D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90F-319E-4077-9059-55E627CE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050-B468-402F-9BA1-B844E2C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3BA-A914-4454-89C6-91F07E39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89520-2A1D-407E-B8C1-8175903E6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2040" y="1325160"/>
            <a:ext cx="76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re is no one like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re is no one like our God     2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1880" y="6742440"/>
            <a:ext cx="39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od of This City: Pre-Cho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4880" y="816120"/>
            <a:ext cx="936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or greater things have yet to come 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nd greater things are still to be done in this city  4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3440" y="6788520"/>
            <a:ext cx="37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od of This City: Cho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2040" y="1325160"/>
            <a:ext cx="76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re is no one like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re is no one like our God     2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1880" y="6742440"/>
            <a:ext cx="39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od of This City: Pre-Cho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9:32:32Z</dcterms:created>
  <dc:creator/>
  <dc:description/>
  <dc:language>en-US</dc:language>
  <cp:lastModifiedBy/>
  <dcterms:modified xsi:type="dcterms:W3CDTF">2015-03-06T05:24:55Z</dcterms:modified>
  <cp:revision>3</cp:revision>
  <dc:subject/>
  <dc:title/>
</cp:coreProperties>
</file>